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A686-6DE2-483D-93FA-AC6E5895F7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49C4-FD2F-457E-B101-E7923E500E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D0B-C14F-47C0-BB7A-9EB4C903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A33-6385-4892-92AA-040424A3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D51-9AFC-445E-97D7-EB40F448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CEF-2579-4D8B-A3F3-05531A40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3376-A3B0-4CA7-8F3B-CD6371B9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6E97-3664-47D5-81CB-C337E38D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7D7A-89A6-468B-9CA8-5204C5C9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BA6F-20CB-44E1-90D4-8DBAEC82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A523-C398-43E2-8C1B-96B76E2D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2AF2-F0F4-4AE8-A914-EA3826DE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AD99-2F75-4453-B4D4-90472DD7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89A-1D29-4DB1-9359-97838E57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B106-C999-4CC3-AC99-3A6E93DA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C0F5-0C80-4262-B811-2753B7EB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162A-9D78-47FB-8510-02C02EF5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1EA6-B516-4C7B-AB63-0026A6B8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2F77-DE3E-44E5-A75D-C5E1DE75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8FA5D-C32E-4EC8-BFB8-9A6B0328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9CB66-EFB9-43BB-9ED4-0535E667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24E71-D19F-4952-95AC-0B20D697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0F51E-684F-443E-BB97-8BDF2FFD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8DBFA-0E17-4CD3-865F-74A33A0B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757-7B32-4000-9785-773AA57E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554E3-19BD-4082-8403-F386A30B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0C5A9-014B-4127-8541-94712C6D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A92B2-B493-4882-9C1B-C1483B94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310A-0BC1-4D12-8192-645C40B9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93F6-AF7E-4C59-AFF3-881276E1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1763A-FA5B-47EE-9F2B-3C03731E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CB212-07A6-44F0-B74E-8DBFCED9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4B6C7-09F9-44B7-8F81-A8B1CD79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0D172-3FDF-4449-A812-D12475C5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E2870-E0ED-4B12-BBC1-E551B0E3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E46-BF92-4CCC-8761-2C43D0B9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7D15A-A877-4530-8232-05D33A71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E9772-1C91-4643-BC4F-DD362C44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74FB7-D595-484A-8648-D3D8A756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B2B46-FB28-4076-B3F9-1F59B0FF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7C10D-7380-4AED-9D08-90C184F2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3E98F-D56C-44B3-82C1-CB1A3CD9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79645-98E8-47E8-8A30-213FC113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FF134-558B-4F7E-8F5B-061FDBF6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C905B-0BC0-46D8-B6DD-74971364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BBBA1-E2E5-4C39-BD39-392533AA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71F-36BC-4613-B1FA-B7C10169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3B21C-17E3-4F7A-AFCC-118E556F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33C13-A134-4A2C-A1C0-D27ACDEA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E8467-0F7C-46A7-90A7-4FF1E408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926C6-8B88-43C4-9499-BB6D3909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97CC0-FD67-44EB-8374-C4C7E65B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13D48-D951-4B1A-BB3D-98E3CAB1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3EBBA-48E2-42E7-9C50-552E4E50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F4DFE-E558-4DDE-9FD0-DB37C6E2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634E7-A429-4C9D-B422-308886DC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B4996-8D94-4BB5-9DCF-900616CA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674-557D-42F9-8EE8-BF1D5B05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0E46A-7986-49E9-8452-18426C3F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929-2185-450A-9134-B18D0927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5FE-C479-4868-97CD-D128321B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076-12C5-434E-A756-69925CDA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6557-DE74-4EEF-8A1A-2335AB3F462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FF6F-1319-41A0-B3BC-7E1F76133ED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A469-9274-4BCF-BB58-1A1274DBF45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CD53-23C1-433D-B976-6F1AF3E341E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CB66-ECFC-4D11-B6A9-B05123EDE5B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illbe.ru/img/clause/kak_vybrat_professiju_clause_original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d3e"/>
                </a:solidFill>
                <a:latin typeface="Verdana"/>
              </a:rPr>
              <a:t>Кем мне стать в будущем?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7" descr="kak_vybrat_professiju_clause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28760" y="2643120"/>
            <a:ext cx="4681440" cy="3600360"/>
          </a:xfrm>
          <a:prstGeom prst="rect">
            <a:avLst/>
          </a:prstGeom>
          <a:ln w="0">
            <a:noFill/>
          </a:ln>
        </p:spPr>
      </p:pic>
      <p:sp>
        <p:nvSpPr>
          <p:cNvPr id="229" name="Скругленный прямоугольник 3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1f28"/>
                </a:solidFill>
                <a:latin typeface="Verdana"/>
              </a:rPr>
              <a:t>Призвание - это не цель. Призвание - это притягательное направление жизненного движения, которое включает в себя множество целей разного масштаба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slow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45f07"/>
                </a:solidFill>
                <a:latin typeface="Verdana"/>
              </a:rPr>
              <a:t>Жизнь в призвании позволяет удовлетворить глубинные ценности, то есть, быть удовлетворенным своей жизнью.</a:t>
            </a:r>
            <a:br>
              <a:rPr sz="3600"/>
            </a:br>
            <a:r>
              <a:rPr b="1" lang="ru-RU" sz="3600" spc="-1" strike="noStrike">
                <a:solidFill>
                  <a:srgbClr val="b45f07"/>
                </a:solidFill>
                <a:latin typeface="Verdana"/>
              </a:rPr>
              <a:t>Удовлетворение ценностей сопровождается удовольствием, что делает жизнь "Удовольствием каждый день".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a743a"/>
                </a:solidFill>
                <a:latin typeface="Verdana"/>
              </a:rPr>
              <a:t>Любимых дел в нашей жизни может быть множество, и все они связаны одной нитью - нашим призванием, привлекательным нам направлением жизни.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Verdana"/>
              </a:rPr>
              <a:t>Занятие разными делами  обогащает нас знаниями и умениями, складывая которые мы получаем уникальные способности, которые позволяют нам жить в условиях конкуренции.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507204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Но выбор остается за тобой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Picture 2" descr="proforien"/>
          <p:cNvPicPr/>
          <p:nvPr/>
        </p:nvPicPr>
        <p:blipFill>
          <a:blip r:embed="rId1"/>
          <a:stretch/>
        </p:blipFill>
        <p:spPr>
          <a:xfrm>
            <a:off x="5715000" y="2928960"/>
            <a:ext cx="271476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581832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Если ты с детства мечтал стать врачом или космонавтом, и до сих пор не сомневаешься в правильности своего выбора — у тебя нет проблем. Что бы ни говорили мама и бабушка, ты с упорством фанатика штудируешь учебники по химии или биологии, или посещаешь кружок «юный физик» и хорошо представляешь себе, что будешь делать по окончании школы…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Picture 17" descr="header1ё2"/>
          <p:cNvPicPr/>
          <p:nvPr/>
        </p:nvPicPr>
        <p:blipFill>
          <a:blip r:embed="rId1"/>
          <a:stretch/>
        </p:blipFill>
        <p:spPr>
          <a:xfrm>
            <a:off x="5429160" y="2643120"/>
            <a:ext cx="3214800" cy="317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Если это так, то ты — счастливчик 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40360" y="928800"/>
            <a:ext cx="475128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А если нет, то мы тебе поможем советом!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Picture 5" descr="choice_profession"/>
          <p:cNvPicPr/>
          <p:nvPr/>
        </p:nvPicPr>
        <p:blipFill>
          <a:blip r:embed="rId1"/>
          <a:stretch/>
        </p:blipFill>
        <p:spPr>
          <a:xfrm>
            <a:off x="428760" y="1143000"/>
            <a:ext cx="309564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15001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Самые престижные </a:t>
            </a:r>
            <a:br>
              <a:rPr sz="4000"/>
            </a:b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    профессии по мнению            россиян.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Picture 4" descr="01_prof"/>
          <p:cNvPicPr/>
          <p:nvPr/>
        </p:nvPicPr>
        <p:blipFill>
          <a:blip r:embed="rId1"/>
          <a:stretch/>
        </p:blipFill>
        <p:spPr>
          <a:xfrm>
            <a:off x="500040" y="292896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Диаграмма 4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429400" cy="6429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7 профессий для тех, кто  любит общаться с людьми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сихоло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ид-переводч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урналис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кламис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подава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R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дж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джер по продаж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ые нервные професси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400" y="1213920"/>
            <a:ext cx="7143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убличные : артисты, телеведущие, полит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ворческие:  художники, писатели, режиссеры, журналис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ающие: педагог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исматривающие»: няни, сидел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ющие: официанты, горничные, продав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114300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ие задаются вопросом: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«В чем мое призвание?»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На самом деле, призвание- </a:t>
            </a: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это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3" name="Picture 2" descr="thinking-man"/>
          <p:cNvPicPr/>
          <p:nvPr/>
        </p:nvPicPr>
        <p:blipFill>
          <a:blip r:embed="rId1"/>
          <a:stretch/>
        </p:blipFill>
        <p:spPr>
          <a:xfrm>
            <a:off x="5357880" y="4214880"/>
            <a:ext cx="209556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50:06Z</dcterms:created>
  <dc:creator>белка</dc:creator>
  <dc:description/>
  <dc:language>en-US</dc:language>
  <cp:lastModifiedBy>Тоха</cp:lastModifiedBy>
  <dcterms:modified xsi:type="dcterms:W3CDTF">2012-11-02T03:47:05Z</dcterms:modified>
  <cp:revision>19</cp:revision>
  <dc:subject/>
  <dc:title>Кем мне стать в будущем?</dc:title>
</cp:coreProperties>
</file>